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D4B-C83D-4759-8292-ABFFA341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8DF-4A1E-44A9-97A8-A8C7C17E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3F7-8614-4375-B68C-9066FBAD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902-BEA4-4179-BB05-7484EAC3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2EB-EE9B-4D69-AF13-9CE06C4A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73A-9AB1-49D3-841C-00386446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CA4-4ADB-4948-B229-B9F4C1FD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5FB-45B2-44BF-A24B-54CB7320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A6E-347A-40D1-8434-85C6D871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C43-277F-4C6B-B6EB-8D562C72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898-1E3F-4946-B196-65584BCC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233-80E4-4D25-AC32-7D3A5CE6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A456-2DEB-4F71-9380-4DFC8F1E3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1143000"/>
            <a:ext cx="69530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The Course of the N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 rot="21337200">
            <a:off x="1980720" y="3962160"/>
            <a:ext cx="5943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By Tobias and Jarr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approximately is the Nil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s long as my big 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bout 6,500 kilo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bout 6,500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of The N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ke Plate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-Ja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b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Nile-North of Khartoum in The Sudan and Egy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le D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taracts of The N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racts are areas in a River with shallow water and multiple obstacles. Six of them lie in th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ngth of The Nile Riv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ile River is 6,671 kilometers long, 2000 yards deep, 300,350,000 kilometers squ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angers of the N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cata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Hip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Nile Crocod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43000" y="1295280"/>
            <a:ext cx="6483240" cy="406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T’S QUIZ TIME!!!!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heel spokes="3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is a resource of the Nil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eletubbi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amietta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l-Ja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God of the Nile R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ppy won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Mo-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areas of shallow rapids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Barney’s C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Ra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Cata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77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77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7:41:45Z</dcterms:created>
  <dc:creator>Default</dc:creator>
  <dc:description/>
  <dc:language>en-US</dc:language>
  <cp:lastModifiedBy>Default</cp:lastModifiedBy>
  <dcterms:modified xsi:type="dcterms:W3CDTF">2009-01-16T17:56:42Z</dcterms:modified>
  <cp:revision>8</cp:revision>
  <dc:subject/>
  <dc:title>The Course of the Nile</dc:title>
</cp:coreProperties>
</file>